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9.png" ContentType="image/png"/>
  <Override PartName="/ppt/media/image1.png" ContentType="image/png"/>
  <Override PartName="/ppt/media/image18.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8.png" ContentType="image/png"/>
  <Override PartName="/ppt/media/image1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D3F99-AC90-4B6F-AC7B-21920A893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69DD4-A90F-407C-B03E-A50E22C7E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743B27-9FA7-4D80-BED8-156106F49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DD2B6-9C36-43C4-B2B1-DA4036BC1A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034E09-335B-4BCC-BB68-F4B4CF360B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4A3492-45D0-4C14-BB30-21A7676E1A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5CF9BB-469C-4645-B706-AF4F1D1228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8512A3-4BE8-4F92-A263-7CCE7E611A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6F2B08-F30A-42C4-9027-E25DE1D4E5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C54142-B8B0-43B2-84B6-BA06927455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7B41C-684A-4959-AB4D-F5661F776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693B3-E691-47E9-B91E-2D6975ED0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180CC-7A3E-4972-AA51-EBF2D3D82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7A19C-A9BE-4E88-8C5C-97BB558E9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A78BB-84E2-414B-8482-D2EDF69A9E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FA30CC-A648-40D9-B3DF-C08705CA39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A27693-2E21-40B0-97E0-4CE92EAEB7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16C3E9-2488-4921-84E9-CFBF5E3CD0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4F2EA7-F0EF-4246-9382-3FA0043571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13E94D-24CE-4D27-9227-A261894F5F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2CA26E-166F-4357-8FDC-A6DC8C7306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E3AC0C-183B-4B53-807F-5AB7B9953C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D895F-CD86-4DC8-8AED-9F9E7244F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DA20E7-D42A-49AC-8A5F-31E12F5C99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47400D-0A58-4366-9E10-D88A37671C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0925B9-DD10-4EAB-9164-05AF9FDE22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DC4307-1D2F-4C14-9906-66BFEBBAF2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DB2F29-1FD6-4AE9-AE5E-61D87EB3A1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BB960A-46C4-4A20-AA99-89CB11D11F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A3ED77-C6B0-4B69-A9BF-3736EC02F0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1FB8EA-64B1-4AFE-9E56-2F846FBDAF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3DCF77-95F8-44DB-90A8-DC32569533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C3008B-1C00-4762-A143-430D3C28E0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6BBEF-AEB2-40F6-A0F5-607ABE640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07C299-D8C0-4DBA-9493-8E91CCB651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DBC251-24D6-4466-AA43-40794C1DC3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868009-9CF6-4A60-8549-84C49F2B59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6BAE73-DF8A-46D8-9C1A-3F51580F29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F343D6-D0E3-473D-AB56-B070369A62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EA6A40-D35E-43A7-BA9E-B3563EAAEE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4A26F9-A2F6-4B0E-8E9D-9E01A46713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2EFADC-3D6B-4976-9E9A-D602439667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D1BE52-090D-434F-BCB6-A62D3B8EB7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D6D3D8-46E0-4E02-B77B-2C034B085A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EDB08-6D60-4E34-BD95-E771D93AF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2C4089-75CC-4221-A26B-13A45E02B1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2134C4-7994-411D-B85A-887BEDEC21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60C517-379E-4316-80F3-8A61029A68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C4E37D-460D-410C-92D5-CFBD686AF8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8B24F7-B140-4885-917D-507479111C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8EC73A-D3E0-47CF-8394-B54B8ED66A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6189B6-169F-4660-BC8B-8FA7770662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D2E5F2-816C-487E-B7DD-86FEAC2FF7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A1AEA3-289C-4B6D-9AF1-B7D78DB77F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2ABA84-D08B-40EA-9C34-DAB9D20B62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1AF46-D422-4A58-91B9-93E90199A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356A5E-F32E-42EF-A4C6-7D08CD5512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0CA1E0-0902-4F01-8AB5-C40B6122E62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C3275F-C831-4A0F-B520-7DEEE49526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B6A3A1-0FFE-4FA0-B502-F043DF35ED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0FF780-F28F-4B72-A3B7-518E792CCB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23B57D-3C32-4C6C-BF78-2B4310A632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35173A-637C-4DD8-A95D-77A2A35ECD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9EC23C-6ABF-4CC7-829C-41E6FF6487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BAC0B6-2A35-4632-8AD6-39B10A48EA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2CE0EF-8F84-4BD8-B645-5ECB21AF97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A3A57-A44D-4BB0-AE6F-08851B241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A67E54-CC2A-4C68-8C60-504AAFF210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B1A589-656B-452F-8F1C-8E048D3718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191142-49BF-4087-99BC-00019484F5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4FDE46-F2AE-464A-A376-4FDFBE3B2D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6CBA9E-7D21-4963-ADC4-ABA786FDBE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71EA9A-067E-46A6-B705-8A65E5770B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BC6F94-ED04-4EE9-B670-86911A895C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F33626-89AE-4501-BD18-BF1A73648B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DB4632-15DB-4C44-AC18-52BE15744B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E5672D-05DE-4240-A865-387969EB6C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DA6A6-C935-4B1F-B9C5-F91E56088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814877-1E1A-4E33-943C-8FFAFD515F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6AA6D3-8FBF-412D-9D0B-43F949CBE1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275BD6-886F-4718-9AB2-BAA97BCC06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B30B1C-5123-406D-9BF3-409359986FA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07B799-ED0D-45AB-A05E-31841B18AEE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716049-C39A-43BD-8E02-54C51457D4A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E2D446-1C67-4512-A7CC-5230244F95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F433AE-B5A2-4724-94B4-F999774C4C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7E90DB-90F4-4E57-9D3D-80CDFE883A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EB6B7D-57CD-476A-86AE-508C69B7F1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4E013-99BC-4796-8EEB-BFD01272A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16B8E3-2864-4B01-BD95-518F8D44C8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4BC43B-DD6E-4F02-8D2F-4F572548A2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0CC798-E23B-469E-9FA8-C4531F418D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515882-0A3F-4277-A91E-FE4C2F6CCC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46A5F4-81C2-4231-9E79-41B8271B29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321662A-EAA3-4E89-8FBE-AC7A612C7A6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775f55"/>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BBBFFE-C6F7-4A88-84BA-0E04D1AD1D8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716040" y="5002200"/>
            <a:ext cx="3801960" cy="1442880"/>
          </a:xfrm>
          <a:prstGeom prst="pie">
            <a:avLst/>
          </a:prstGeom>
          <a:solidFill>
            <a:srgbClr val="c0d3e6">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775f55"/>
                </a:solidFill>
                <a:latin typeface="Lucida Sans Unicode"/>
              </a:rPr>
              <a:t>Click to edit the title text format</a:t>
            </a:r>
            <a:endParaRPr b="1" lang="en-US" sz="4100" spc="-1" strike="noStrike">
              <a:solidFill>
                <a:srgbClr val="775f55"/>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94b6d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94b6d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d80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d80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d80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606C2-9FDC-40A2-B35B-7E68572BCEFD}" type="slidenum">
              <a:rPr b="0" lang="es-E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4d7291"/>
              </a:gs>
              <a:gs pos="50000">
                <a:srgbClr val="96c0e4"/>
              </a:gs>
              <a:gs pos="100000">
                <a:srgbClr val="4d7291"/>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000"/>
            </a:xfrm>
            <a:prstGeom prst="pie">
              <a:avLst/>
            </a:prstGeom>
            <a:solidFill>
              <a:srgbClr val="c0d3e6">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8 Forma libre"/>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775f55"/>
                </a:solidFill>
                <a:latin typeface="Lucida Sans Unicode"/>
              </a:rPr>
              <a:t>Click to edit the title text format</a:t>
            </a:r>
            <a:endParaRPr b="1" lang="en-US" sz="4100" spc="-1" strike="noStrike">
              <a:solidFill>
                <a:srgbClr val="775f55"/>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94b6d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94b6d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d80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d80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d80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1A33A-ED8C-4F18-9D74-2A80C914B0F4}" type="slidenum">
              <a:rPr b="0" lang="es-E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716040" y="5002200"/>
            <a:ext cx="3801960" cy="1442880"/>
          </a:xfrm>
          <a:prstGeom prst="pie">
            <a:avLst/>
          </a:prstGeom>
          <a:solidFill>
            <a:srgbClr val="c0d3e6">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6f91ad"/>
              </a:gs>
              <a:gs pos="100000">
                <a:srgbClr val="aecbe5"/>
              </a:gs>
            </a:gsLst>
            <a:lin ang="16200000"/>
          </a:gradFill>
          <a:ln cap="rnd" w="3240">
            <a:solidFill>
              <a:srgbClr val="6b859a"/>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6f91ad"/>
              </a:gs>
              <a:gs pos="100000">
                <a:srgbClr val="aecbe5"/>
              </a:gs>
            </a:gsLst>
            <a:lin ang="16200000"/>
          </a:gradFill>
          <a:ln cap="rnd" w="3240">
            <a:solidFill>
              <a:srgbClr val="6b859a"/>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bddc3"/>
                </a:solidFill>
                <a:latin typeface="Lucida Sans Unicode"/>
              </a:rPr>
              <a:t>Click to edit the title text format</a:t>
            </a:r>
            <a:endParaRPr b="1" lang="en-US" sz="4100" spc="-1" strike="noStrike">
              <a:solidFill>
                <a:srgbClr val="ebddc3"/>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94b6d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94b6d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d80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d80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d80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1D444-16EE-461B-865F-B69D0C3E2D24}" type="slidenum">
              <a:rPr b="0" lang="es-E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716040" y="5002200"/>
            <a:ext cx="3801960" cy="1442880"/>
          </a:xfrm>
          <a:prstGeom prst="pie">
            <a:avLst/>
          </a:prstGeom>
          <a:solidFill>
            <a:srgbClr val="c0d3e6">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bddc3"/>
                </a:solidFill>
                <a:latin typeface="Lucida Sans Unicode"/>
              </a:rPr>
              <a:t>Click to edit the title text format</a:t>
            </a:r>
            <a:endParaRPr b="1" lang="en-US" sz="4100" spc="-1" strike="noStrike">
              <a:solidFill>
                <a:srgbClr val="ebddc3"/>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94b6d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94b6d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d80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d80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d80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520D8-7534-4CFC-837E-9D2B3A87A03B}" type="slidenum">
              <a:rPr b="0" lang="es-E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775f55"/>
                </a:solidFill>
                <a:latin typeface="Lucida Sans Unicode"/>
              </a:rPr>
              <a:t>Click to edit the title text format</a:t>
            </a:r>
            <a:endParaRPr b="1" lang="en-US" sz="4100" spc="-1" strike="noStrike">
              <a:solidFill>
                <a:srgbClr val="775f55"/>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94b6d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94b6d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d80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d80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d80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947AB-5638-4266-9640-BD62C2B01969}" type="slidenum">
              <a:rPr b="0" lang="es-E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716040" y="5002200"/>
            <a:ext cx="3801960" cy="1442880"/>
          </a:xfrm>
          <a:prstGeom prst="pie">
            <a:avLst/>
          </a:prstGeom>
          <a:solidFill>
            <a:srgbClr val="c0d3e6">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bddc3"/>
                </a:solidFill>
                <a:latin typeface="Lucida Sans Unicode"/>
              </a:rPr>
              <a:t>Click to edit the title text format</a:t>
            </a:r>
            <a:endParaRPr b="1" lang="en-US" sz="4100" spc="-1" strike="noStrike">
              <a:solidFill>
                <a:srgbClr val="ebddc3"/>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94b6d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94b6d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d80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d80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d80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97EC9-9E98-446D-96AF-FD3449F85986}" type="slidenum">
              <a:rPr b="0" lang="es-E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775f55"/>
                </a:solidFill>
                <a:latin typeface="Lucida Sans Unicode"/>
              </a:rPr>
              <a:t>Click to edit the title text format</a:t>
            </a:r>
            <a:endParaRPr b="1" lang="en-US" sz="4100" spc="-1" strike="noStrike">
              <a:solidFill>
                <a:srgbClr val="775f55"/>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94b6d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94b6d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d80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d80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d80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66F5C-7796-423A-A9CC-71C707343E57}" type="slidenum">
              <a:rPr b="0" lang="es-E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716040" y="5002200"/>
            <a:ext cx="3801960" cy="1442880"/>
          </a:xfrm>
          <a:prstGeom prst="pie">
            <a:avLst/>
          </a:prstGeom>
          <a:solidFill>
            <a:srgbClr val="c0d3e6">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15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6f91ad"/>
              </a:gs>
              <a:gs pos="100000">
                <a:srgbClr val="aecbe5"/>
              </a:gs>
            </a:gsLst>
            <a:lin ang="16200000"/>
          </a:gradFill>
          <a:ln cap="rnd" w="3240">
            <a:solidFill>
              <a:srgbClr val="6b859a"/>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6f91ad"/>
              </a:gs>
              <a:gs pos="100000">
                <a:srgbClr val="aecbe5"/>
              </a:gs>
            </a:gsLst>
            <a:lin ang="16200000"/>
          </a:gradFill>
          <a:ln cap="rnd" w="3240">
            <a:solidFill>
              <a:srgbClr val="6b859a"/>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bddc3"/>
                </a:solidFill>
                <a:latin typeface="Lucida Sans Unicode"/>
              </a:rPr>
              <a:t>Click to edit the title text format</a:t>
            </a:r>
            <a:endParaRPr b="1" lang="en-US" sz="4100" spc="-1" strike="noStrike">
              <a:solidFill>
                <a:srgbClr val="ebddc3"/>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94b6d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94b6d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d80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d80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d80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48891-B008-44FD-BF3B-2E7E9EEBC14D}" type="slidenum">
              <a:rPr b="0" lang="es-E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1 Título" descr=""/>
          <p:cNvPicPr/>
          <p:nvPr/>
        </p:nvPicPr>
        <p:blipFill>
          <a:blip r:embed="rId1"/>
          <a:stretch/>
        </p:blipFill>
        <p:spPr>
          <a:xfrm>
            <a:off x="682560" y="1384200"/>
            <a:ext cx="8223480" cy="2212920"/>
          </a:xfrm>
          <a:prstGeom prst="rect">
            <a:avLst/>
          </a:prstGeom>
          <a:ln w="0">
            <a:noFill/>
          </a:ln>
        </p:spPr>
      </p:pic>
      <p:sp>
        <p:nvSpPr>
          <p:cNvPr id="371" name="3 CuadroTexto"/>
          <p:cNvSpPr/>
          <p:nvPr/>
        </p:nvSpPr>
        <p:spPr>
          <a:xfrm>
            <a:off x="357120" y="5929200"/>
            <a:ext cx="8429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Lucida Sans Unicode"/>
              </a:rPr>
              <a:t>Virginia M. Rodríguez Alonso – Abogada Tributarista                   Miguel S. Aliani – CPN – Lic. En Administració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94b6d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Limita el uso de dinero en efectivo por los pagos totales o parciales de sumas de dinero superior a $ 1.000.- o su equivalente a moneda extranjera</a:t>
            </a:r>
            <a:endParaRPr b="0" lang="en-US" sz="27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a:spcBef>
                <a:spcPts val="400"/>
              </a:spcBef>
              <a:buClr>
                <a:srgbClr val="94b6d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Condiciona además circulación de los cheques de pago diferido y comunes</a:t>
            </a:r>
            <a:endParaRPr b="0" lang="en-US" sz="2700" spc="-1" strike="noStrike">
              <a:solidFill>
                <a:srgbClr val="000000"/>
              </a:solidFill>
              <a:latin typeface="Lucida Sans Unicode"/>
            </a:endParaRPr>
          </a:p>
        </p:txBody>
      </p:sp>
      <p:pic>
        <p:nvPicPr>
          <p:cNvPr id="390" name="2 Título" descr=""/>
          <p:cNvPicPr/>
          <p:nvPr/>
        </p:nvPicPr>
        <p:blipFill>
          <a:blip r:embed="rId1"/>
          <a:stretch/>
        </p:blipFill>
        <p:spPr>
          <a:xfrm>
            <a:off x="311040" y="407880"/>
            <a:ext cx="8425080" cy="1244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500040" y="1142640"/>
            <a:ext cx="8229600" cy="4721400"/>
          </a:xfrm>
          <a:prstGeom prst="rect">
            <a:avLst/>
          </a:prstGeom>
          <a:noFill/>
          <a:ln w="0">
            <a:noFill/>
          </a:ln>
        </p:spPr>
        <p:txBody>
          <a:bodyPr anchor="t">
            <a:normAutofit fontScale="95000"/>
          </a:bodyPr>
          <a:p>
            <a:pPr marL="346680" indent="-242640" algn="just">
              <a:spcBef>
                <a:spcPts val="400"/>
              </a:spcBef>
              <a:buClr>
                <a:srgbClr val="94b6d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Lucida Sans Unicode"/>
              </a:rPr>
              <a:t>Artículo 3  “Será reprimido con prisión de tres años y seis meses a nueve años el obligado que mediante declaraciones engañosas, ocultaciones maliciosas o cualquier otro ardid o engaño, se aprovechare indebidamente de reintegros, recuperos, devoluciones o cualquier otro subsidio nacional directo de naturaleza tributaria siempre que el monto de lo percibido supere la suma de pesos cien mil ($ 100.000) en un ejercicio anual.”</a:t>
            </a:r>
            <a:endParaRPr b="0" lang="en-US" sz="1700" spc="-1" strike="noStrike">
              <a:solidFill>
                <a:srgbClr val="000000"/>
              </a:solidFill>
              <a:latin typeface="Lucida Sans Unicode"/>
            </a:endParaRPr>
          </a:p>
          <a:p>
            <a:pPr marL="346680" indent="-242640" algn="just">
              <a:spcBef>
                <a:spcPts val="400"/>
              </a:spcBef>
              <a:buClr>
                <a:srgbClr val="94b6d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Lucida Sans Unicode"/>
              </a:rPr>
              <a:t>Artículo 4 “Será reprimido con prisión de uno a seis años el que mediante declaraciones engañosas, ocultaciones maliciosas o cualquier otro ardid o engaño, sea por acción o por omisión, obtuviere un reconocimiento, certificación o autorización para gozar de una exención, desgravación, diferimiento, liberación, reducción, reintegro, recupero 0 devolución tributaria al fisco nacional. “</a:t>
            </a:r>
            <a:endParaRPr b="0" lang="en-US" sz="1700" spc="-1" strike="noStrike">
              <a:solidFill>
                <a:srgbClr val="000000"/>
              </a:solidFill>
              <a:latin typeface="Lucida Sans Unicode"/>
            </a:endParaRPr>
          </a:p>
          <a:p>
            <a:pPr marL="346680" indent="-242640" algn="just">
              <a:spcBef>
                <a:spcPts val="400"/>
              </a:spcBef>
              <a:buClr>
                <a:srgbClr val="94b6d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Lucida Sans Unicode"/>
              </a:rPr>
              <a:t>Artículo 15 “El que a sabiendas, dictaminare, informare, diere fe, autorizare o certificare actos jurídicos, balances, estados contables o documentación para facilitar la comisión de los delitos previstos en esta ley, será pasible, además de las penas correspondientes por su participación criminal en el hecho, de la pena de inhabilitación especial por el doble del tiempo de la condena.”</a:t>
            </a:r>
            <a:endParaRPr b="0" lang="en-US" sz="1700" spc="-1" strike="noStrike">
              <a:solidFill>
                <a:srgbClr val="000000"/>
              </a:solidFill>
              <a:latin typeface="Lucida Sans Unicode"/>
            </a:endParaRPr>
          </a:p>
          <a:p>
            <a:pPr marL="346680" indent="-24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pic>
        <p:nvPicPr>
          <p:cNvPr id="392" name="2 Título" descr=""/>
          <p:cNvPicPr/>
          <p:nvPr/>
        </p:nvPicPr>
        <p:blipFill>
          <a:blip r:embed="rId1"/>
          <a:stretch/>
        </p:blipFill>
        <p:spPr>
          <a:xfrm>
            <a:off x="311040" y="407880"/>
            <a:ext cx="8425080" cy="124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2 Título" descr=""/>
          <p:cNvPicPr/>
          <p:nvPr/>
        </p:nvPicPr>
        <p:blipFill>
          <a:blip r:embed="rId1"/>
          <a:stretch/>
        </p:blipFill>
        <p:spPr>
          <a:xfrm>
            <a:off x="268200" y="268200"/>
            <a:ext cx="8425080" cy="1158840"/>
          </a:xfrm>
          <a:prstGeom prst="rect">
            <a:avLst/>
          </a:prstGeom>
          <a:ln w="0">
            <a:noFill/>
          </a:ln>
        </p:spPr>
      </p:pic>
      <p:sp>
        <p:nvSpPr>
          <p:cNvPr id="373" name=""/>
          <p:cNvSpPr txBox="1"/>
          <p:nvPr/>
        </p:nvSpPr>
        <p:spPr>
          <a:xfrm>
            <a:off x="285840" y="1481040"/>
            <a:ext cx="857232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94b6d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Ley orgánica de mutualidades 20.321</a:t>
            </a:r>
            <a:endParaRPr b="0" lang="en-US" sz="2400" spc="-1" strike="noStrike">
              <a:solidFill>
                <a:srgbClr val="000000"/>
              </a:solidFill>
              <a:latin typeface="Lucida Sans Unicode"/>
            </a:endParaRPr>
          </a:p>
          <a:p>
            <a:pPr marL="365040" indent="-255600">
              <a:spcBef>
                <a:spcPts val="400"/>
              </a:spcBef>
              <a:buClr>
                <a:srgbClr val="94b6d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Resolución (INAES) 1418/03</a:t>
            </a:r>
            <a:endParaRPr b="0" lang="en-US" sz="2400" spc="-1" strike="noStrike">
              <a:solidFill>
                <a:srgbClr val="000000"/>
              </a:solidFill>
              <a:latin typeface="Lucida Sans Unicode"/>
            </a:endParaRPr>
          </a:p>
          <a:p>
            <a:pPr marL="365040" indent="-255600">
              <a:spcBef>
                <a:spcPts val="400"/>
              </a:spcBef>
              <a:buClr>
                <a:srgbClr val="94b6d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Resolución (INAES) 552/2004</a:t>
            </a:r>
            <a:endParaRPr b="0" lang="en-US" sz="2400" spc="-1" strike="noStrike">
              <a:solidFill>
                <a:srgbClr val="000000"/>
              </a:solidFill>
              <a:latin typeface="Lucida Sans Unicode"/>
            </a:endParaRPr>
          </a:p>
          <a:p>
            <a:pPr marL="365040" indent="-255600">
              <a:spcBef>
                <a:spcPts val="400"/>
              </a:spcBef>
              <a:buClr>
                <a:srgbClr val="94b6d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Ley 25.920 (Modificatoria Ley 20.321)</a:t>
            </a:r>
            <a:endParaRPr b="0" lang="en-US" sz="2400" spc="-1" strike="noStrike">
              <a:solidFill>
                <a:srgbClr val="000000"/>
              </a:solidFill>
              <a:latin typeface="Lucida Sans Unicode"/>
            </a:endParaRPr>
          </a:p>
          <a:p>
            <a:pPr marL="365040" indent="-255600">
              <a:spcBef>
                <a:spcPts val="400"/>
              </a:spcBef>
              <a:buClr>
                <a:srgbClr val="94b6d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Ley anti evasión 25.345 y modificatorias</a:t>
            </a:r>
            <a:endParaRPr b="0" lang="en-US" sz="2400" spc="-1" strike="noStrike">
              <a:solidFill>
                <a:srgbClr val="000000"/>
              </a:solidFill>
              <a:latin typeface="Lucida Sans Unicode"/>
            </a:endParaRPr>
          </a:p>
          <a:p>
            <a:pPr marL="365040" indent="-255600">
              <a:spcBef>
                <a:spcPts val="400"/>
              </a:spcBef>
              <a:buClr>
                <a:srgbClr val="94b6d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Ley 25.413 Y modificatoria Ley 25.453</a:t>
            </a:r>
            <a:endParaRPr b="0" lang="en-US" sz="2400" spc="-1" strike="noStrike">
              <a:solidFill>
                <a:srgbClr val="000000"/>
              </a:solidFill>
              <a:latin typeface="Lucida Sans Unicode"/>
            </a:endParaRPr>
          </a:p>
          <a:p>
            <a:pPr marL="365040" indent="-255600">
              <a:spcBef>
                <a:spcPts val="400"/>
              </a:spcBef>
              <a:buClr>
                <a:srgbClr val="94b6d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Ley 24.769 Ley Penal Tributaria</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94b6d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  </a:t>
            </a:r>
            <a:r>
              <a:rPr b="0" lang="es-ES" sz="2700" spc="-1" strike="noStrike">
                <a:solidFill>
                  <a:srgbClr val="000000"/>
                </a:solidFill>
                <a:latin typeface="Lucida Sans Unicode"/>
              </a:rPr>
              <a:t>Esta ley fue promulgada por el poder ejecutivo nacional a través del decreto 1184/2004, que confirma la exención de todo impuesto nacional para las entidades mutuales.</a:t>
            </a:r>
            <a:endParaRPr b="0" lang="en-US" sz="2700" spc="-1" strike="noStrike">
              <a:solidFill>
                <a:srgbClr val="000000"/>
              </a:solidFill>
              <a:latin typeface="Lucida Sans Unicode"/>
            </a:endParaRPr>
          </a:p>
          <a:p>
            <a:pPr marL="365040" indent="-255600" algn="just">
              <a:spcBef>
                <a:spcPts val="400"/>
              </a:spcBef>
              <a:buClr>
                <a:srgbClr val="94b6d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5" name="2 Título" descr=""/>
          <p:cNvPicPr/>
          <p:nvPr/>
        </p:nvPicPr>
        <p:blipFill>
          <a:blip r:embed="rId1"/>
          <a:stretch/>
        </p:blipFill>
        <p:spPr>
          <a:xfrm>
            <a:off x="268200" y="268200"/>
            <a:ext cx="842508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a:bodyPr>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Ley 20.321 - Artículo 29 “Las asociaciones mutualistas constituidas de acuerdo a las exigencias de la presente ley quedan exentas en el orden nacional, en el de la Municipalidad de la Capital Federal y en el Territorio Nacional de Tierra de Fuego, Antártida e Islas del Atlántico Sur, de todo impuesto, tasa o contribución de mejoras, en relación a sus bienes y por sus actos...</a:t>
            </a:r>
            <a:endParaRPr b="0" lang="en-US" sz="20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Quedan también liberadas de derechos aduaneros por importación de aparatos, instrumental, drogas y específicos cuando los mismo sean pedidos por las asociaciones mutualistas y destinados a la prestación de sus servicios sociales. “ </a:t>
            </a:r>
            <a:endParaRPr b="0" lang="en-US" sz="2000" spc="-1" strike="noStrike">
              <a:solidFill>
                <a:srgbClr val="000000"/>
              </a:solidFill>
              <a:latin typeface="Lucida Sans Unicode"/>
            </a:endParaRPr>
          </a:p>
          <a:p>
            <a:pPr marL="365040" indent="-255600">
              <a:spcBef>
                <a:spcPts val="400"/>
              </a:spcBef>
              <a:buClr>
                <a:srgbClr val="94b6d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77" name="2 Título" descr=""/>
          <p:cNvPicPr/>
          <p:nvPr/>
        </p:nvPicPr>
        <p:blipFill>
          <a:blip r:embed="rId1"/>
          <a:stretch/>
        </p:blipFill>
        <p:spPr>
          <a:xfrm>
            <a:off x="268200" y="268200"/>
            <a:ext cx="8425080" cy="1158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anchor="t">
            <a:normAutofit/>
          </a:bodyPr>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Ley 25.920  - </a:t>
            </a:r>
            <a:r>
              <a:rPr b="0" lang="es-ES" sz="2000" spc="-1" strike="noStrike">
                <a:solidFill>
                  <a:srgbClr val="000000"/>
                </a:solidFill>
                <a:latin typeface="Lucida Sans Unicode"/>
              </a:rPr>
              <a:t>Artículo 1 (</a:t>
            </a:r>
            <a:r>
              <a:rPr b="0" lang="es-ES" sz="1600" spc="-1" strike="noStrike">
                <a:solidFill>
                  <a:srgbClr val="000000"/>
                </a:solidFill>
                <a:latin typeface="Lucida Sans Unicode"/>
              </a:rPr>
              <a:t>Modificatorio Ley Nº 20.631 </a:t>
            </a:r>
            <a:r>
              <a:rPr b="0" lang="pt-BR" sz="1600" spc="-1" strike="noStrike">
                <a:solidFill>
                  <a:srgbClr val="000000"/>
                </a:solidFill>
                <a:latin typeface="Lucida Sans Unicode"/>
              </a:rPr>
              <a:t>Articulo Nº 7)</a:t>
            </a:r>
            <a:r>
              <a:rPr b="0" lang="pt-BR" sz="2000" spc="-1" strike="noStrike">
                <a:solidFill>
                  <a:srgbClr val="000000"/>
                </a:solidFill>
                <a:latin typeface="Lucida Sans Unicode"/>
              </a:rPr>
              <a:t> </a:t>
            </a:r>
            <a:r>
              <a:rPr b="0" lang="es-ES" sz="2000" spc="-1" strike="noStrike">
                <a:solidFill>
                  <a:srgbClr val="000000"/>
                </a:solidFill>
                <a:latin typeface="Lucida Sans Unicode"/>
              </a:rPr>
              <a:t>"Sin perjuicio de las previsiones del primer párrafo de este artículo, en ningún caso serán de aplicación respecto del impuesto de esta ley las exenciones genéricas de impuestos, en cuanto no lo incluyan taxativamente.</a:t>
            </a:r>
            <a:endParaRPr b="0" lang="en-US" sz="20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La limitación establecida en el párrafo anterior no será de aplicación cuando la exención referida a todo impuesto nacional se encuentre prevista en leyes vigentes a la fecha de entrada en vigencia de la ley por la que se incorpora dicho párrafo, incluida la dispuesta por el artículo 3°, inciso d) de la Ley 16.656, que fuera incorporada como inciso s) del artículo 19 de la Ley 11.682 (t.o. en 1972 y sus modificaciones)."</a:t>
            </a:r>
            <a:endParaRPr b="0" lang="en-US" sz="2000" spc="-1" strike="noStrike">
              <a:solidFill>
                <a:srgbClr val="000000"/>
              </a:solidFill>
              <a:latin typeface="Lucida Sans Unicode"/>
            </a:endParaRPr>
          </a:p>
          <a:p>
            <a:pPr marL="365040" indent="-255600">
              <a:spcBef>
                <a:spcPts val="400"/>
              </a:spcBef>
              <a:buClr>
                <a:srgbClr val="94b6d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79" name="2 Título" descr=""/>
          <p:cNvPicPr/>
          <p:nvPr/>
        </p:nvPicPr>
        <p:blipFill>
          <a:blip r:embed="rId1"/>
          <a:stretch/>
        </p:blipFill>
        <p:spPr>
          <a:xfrm>
            <a:off x="298440" y="268200"/>
            <a:ext cx="839484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6840" y="1481040"/>
            <a:ext cx="8186760" cy="4525920"/>
          </a:xfrm>
          <a:prstGeom prst="rect">
            <a:avLst/>
          </a:prstGeom>
          <a:noFill/>
          <a:ln w="0">
            <a:noFill/>
          </a:ln>
        </p:spPr>
        <p:txBody>
          <a:bodyPr anchor="t">
            <a:normAutofit/>
          </a:bodyPr>
          <a:p>
            <a:pPr marL="365040" indent="-255600">
              <a:lnSpc>
                <a:spcPct val="90000"/>
              </a:lnSpc>
              <a:spcBef>
                <a:spcPts val="400"/>
              </a:spcBef>
              <a:buClr>
                <a:srgbClr val="94b6d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Lucida Sans Unicode"/>
              </a:rPr>
              <a:t>Impuesto Provincial</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Lucida Sans Unicode"/>
              </a:rPr>
              <a:t>	</a:t>
            </a:r>
            <a:r>
              <a:rPr b="0" lang="es-ES" sz="1900" spc="-1" strike="noStrike">
                <a:solidFill>
                  <a:srgbClr val="000000"/>
                </a:solidFill>
                <a:latin typeface="Lucida Sans Unicode"/>
              </a:rPr>
              <a:t>Cada Jurisdicción se dicta sus propias normas, a través del Código Fiscal</a:t>
            </a:r>
            <a:endParaRPr b="0" lang="en-US" sz="19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90000"/>
              </a:lnSpc>
              <a:spcBef>
                <a:spcPts val="400"/>
              </a:spcBef>
              <a:buClr>
                <a:srgbClr val="94b6d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Lucida Sans Unicode"/>
              </a:rPr>
              <a:t>Características Generales</a:t>
            </a:r>
            <a:endParaRPr b="0" lang="en-US" sz="26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Lucida Sans Unicode"/>
              </a:rPr>
              <a:t>	</a:t>
            </a:r>
            <a:r>
              <a:rPr b="0" lang="es-ES" sz="2600" spc="-1" strike="noStrike">
                <a:solidFill>
                  <a:srgbClr val="000000"/>
                </a:solidFill>
                <a:latin typeface="Lucida Sans Unicode"/>
              </a:rPr>
              <a:t> </a:t>
            </a:r>
            <a:r>
              <a:rPr b="0" lang="es-ES" sz="1900" spc="-1" strike="noStrike">
                <a:solidFill>
                  <a:srgbClr val="000000"/>
                </a:solidFill>
                <a:latin typeface="Lucida Sans Unicode"/>
              </a:rPr>
              <a:t>Real, Territorial, Anual</a:t>
            </a:r>
            <a:endParaRPr b="0" lang="en-US" sz="19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90000"/>
              </a:lnSpc>
              <a:spcBef>
                <a:spcPts val="400"/>
              </a:spcBef>
              <a:buClr>
                <a:srgbClr val="94b6d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Lucida Sans Unicode"/>
              </a:rPr>
              <a:t>Coordinación a través del Convenio Multilateral</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Lucida Sans Unicode"/>
              </a:rPr>
              <a:t>	</a:t>
            </a:r>
            <a:r>
              <a:rPr b="0" lang="es-ES" sz="1900" spc="-1" strike="noStrike">
                <a:solidFill>
                  <a:srgbClr val="000000"/>
                </a:solidFill>
                <a:latin typeface="Lucida Sans Unicode"/>
              </a:rPr>
              <a:t>Evita la superposición de imposiciones en las distintas jurisdicciones y reglamenta facultades de fiscalización y percepción de impuestos locales</a:t>
            </a:r>
            <a:endParaRPr b="0" lang="en-US" sz="1900" spc="-1" strike="noStrike">
              <a:solidFill>
                <a:srgbClr val="000000"/>
              </a:solidFill>
              <a:latin typeface="Lucida Sans Unicode"/>
            </a:endParaRPr>
          </a:p>
          <a:p>
            <a:pPr marL="365040" indent="-255600">
              <a:lnSpc>
                <a:spcPct val="90000"/>
              </a:lnSpc>
              <a:spcBef>
                <a:spcPts val="400"/>
              </a:spcBef>
              <a:buClr>
                <a:srgbClr val="94b6d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1" name="2 Título" descr=""/>
          <p:cNvPicPr/>
          <p:nvPr/>
        </p:nvPicPr>
        <p:blipFill>
          <a:blip r:embed="rId1"/>
          <a:stretch/>
        </p:blipFill>
        <p:spPr>
          <a:xfrm>
            <a:off x="23760" y="268200"/>
            <a:ext cx="8669520" cy="11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94b6d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Lucida Sans Unicode"/>
              </a:rPr>
              <a:t>Se aplica cuando una persona posee varias fuentes generadoras de hechos imponibles ubicadas en distintas jurisdicciones</a:t>
            </a:r>
            <a:endParaRPr b="0" lang="en-US" sz="2600" spc="-1" strike="noStrike">
              <a:solidFill>
                <a:srgbClr val="000000"/>
              </a:solidFill>
              <a:latin typeface="Lucida Sans Unicode"/>
            </a:endParaRPr>
          </a:p>
          <a:p>
            <a:pPr marL="365040" indent="-255600" algn="just">
              <a:spcBef>
                <a:spcPts val="400"/>
              </a:spcBef>
              <a:buClr>
                <a:srgbClr val="94b6d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Lucida Sans Unicode"/>
              </a:rPr>
              <a:t>Establece criterios de distribución de base imponible </a:t>
            </a:r>
            <a:endParaRPr b="0" lang="en-US" sz="2600" spc="-1" strike="noStrike">
              <a:solidFill>
                <a:srgbClr val="000000"/>
              </a:solidFill>
              <a:latin typeface="Lucida Sans Unicode"/>
            </a:endParaRPr>
          </a:p>
          <a:p>
            <a:pPr marL="365040" indent="-255600" algn="just">
              <a:spcBef>
                <a:spcPts val="400"/>
              </a:spcBef>
              <a:buClr>
                <a:srgbClr val="94b6d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Lucida Sans Unicode"/>
              </a:rPr>
              <a:t>Coordina y armoniza el ejercicio de poderes fiscales autónomos</a:t>
            </a:r>
            <a:endParaRPr b="0" lang="en-US" sz="2600" spc="-1" strike="noStrike">
              <a:solidFill>
                <a:srgbClr val="000000"/>
              </a:solidFill>
              <a:latin typeface="Lucida Sans Unicode"/>
            </a:endParaRPr>
          </a:p>
          <a:p>
            <a:pPr marL="365040" indent="-255600" algn="just">
              <a:spcBef>
                <a:spcPts val="400"/>
              </a:spcBef>
              <a:buClr>
                <a:srgbClr val="94b6d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Lucida Sans Unicode"/>
              </a:rPr>
              <a:t>Asegura la equidad en el reparto de impuestos a favor de la jurisdicción que corresponda</a:t>
            </a:r>
            <a:endParaRPr b="0" lang="en-US" sz="2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pic>
        <p:nvPicPr>
          <p:cNvPr id="383" name="2 Título" descr=""/>
          <p:cNvPicPr/>
          <p:nvPr/>
        </p:nvPicPr>
        <p:blipFill>
          <a:blip r:embed="rId1"/>
          <a:stretch/>
        </p:blipFill>
        <p:spPr>
          <a:xfrm>
            <a:off x="268200" y="268200"/>
            <a:ext cx="842508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2 Título" descr=""/>
          <p:cNvPicPr/>
          <p:nvPr/>
        </p:nvPicPr>
        <p:blipFill>
          <a:blip r:embed="rId1"/>
          <a:stretch/>
        </p:blipFill>
        <p:spPr>
          <a:xfrm>
            <a:off x="268200" y="268200"/>
            <a:ext cx="8425080" cy="1158840"/>
          </a:xfrm>
          <a:prstGeom prst="rect">
            <a:avLst/>
          </a:prstGeom>
          <a:ln w="0">
            <a:noFill/>
          </a:ln>
        </p:spPr>
      </p:pic>
      <p:sp>
        <p:nvSpPr>
          <p:cNvPr id="385" name="4 CuadroTexto"/>
          <p:cNvSpPr/>
          <p:nvPr/>
        </p:nvSpPr>
        <p:spPr>
          <a:xfrm>
            <a:off x="2143080" y="5786280"/>
            <a:ext cx="664380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Lucida Sans Unicode"/>
              </a:rPr>
              <a:t>Las Provincias de La Pampa y Catamarca gozarán de la exención en la medida en que no se distribuyan directa ni indirectamente entre sus asociados, consejeros y/o directivos, utilidades, gratificaciones utilidades o similares</a:t>
            </a:r>
            <a:endParaRPr b="0" lang="en-US" sz="1100" spc="-1" strike="noStrike">
              <a:solidFill>
                <a:srgbClr val="000000"/>
              </a:solidFill>
              <a:latin typeface="Arial"/>
            </a:endParaRPr>
          </a:p>
        </p:txBody>
      </p:sp>
      <p:pic>
        <p:nvPicPr>
          <p:cNvPr id="386" name="6 Marcador de contenido" descr="Dibujo.bmp"/>
          <p:cNvPicPr/>
          <p:nvPr/>
        </p:nvPicPr>
        <p:blipFill>
          <a:blip r:embed="rId2"/>
          <a:stretch/>
        </p:blipFill>
        <p:spPr>
          <a:xfrm>
            <a:off x="457200" y="1285920"/>
            <a:ext cx="8229600" cy="4244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2 Título" descr=""/>
          <p:cNvPicPr/>
          <p:nvPr/>
        </p:nvPicPr>
        <p:blipFill>
          <a:blip r:embed="rId1"/>
          <a:stretch/>
        </p:blipFill>
        <p:spPr>
          <a:xfrm>
            <a:off x="268200" y="182520"/>
            <a:ext cx="8425080" cy="682560"/>
          </a:xfrm>
          <a:prstGeom prst="rect">
            <a:avLst/>
          </a:prstGeom>
          <a:ln w="0">
            <a:noFill/>
          </a:ln>
        </p:spPr>
      </p:pic>
      <p:pic>
        <p:nvPicPr>
          <p:cNvPr id="388" name="5 Marcador de contenido" descr="mapa situacion mutuales ISIB.jpg"/>
          <p:cNvPicPr/>
          <p:nvPr/>
        </p:nvPicPr>
        <p:blipFill>
          <a:blip r:embed="rId2"/>
          <a:stretch/>
        </p:blipFill>
        <p:spPr>
          <a:xfrm>
            <a:off x="2643120" y="928800"/>
            <a:ext cx="3857760" cy="507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21:11:39Z</dcterms:created>
  <dc:creator>Santiago</dc:creator>
  <dc:description/>
  <dc:language>en-US</dc:language>
  <cp:lastModifiedBy>Santiago</cp:lastModifiedBy>
  <dcterms:modified xsi:type="dcterms:W3CDTF">2008-11-12T22:47:03Z</dcterms:modified>
  <cp:revision>28</cp:revision>
  <dc:subject/>
  <dc:title>Actualidad impositiva y Tributaria  en Mutuales</dc:title>
</cp:coreProperties>
</file>